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D6C-6D01-490F-A729-63C7F687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AEF-FC63-4BAD-BC00-31574F94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1DA-D5A6-4EF8-A053-3DB7B11A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9FF-6E45-4B93-B82B-D94E3060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6F5-CAA7-4294-AAB1-88D1BD57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7D4-E849-46D2-B65F-B3897F38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515-A462-4F18-AF44-EB6645C2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CFA-9440-4EE0-862F-246CAB9D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D02-4407-4B6F-B766-1CDC5556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3CA-AEEC-4967-A0C7-80C2DD5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31A-207E-4633-AF6B-04B88820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D78-C897-4F17-85B8-2B78EEB2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D1C-FE49-4978-A628-4618BB273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ZXpNBFo404" TargetMode="External"/><Relationship Id="rId2" Type="http://schemas.openxmlformats.org/officeDocument/2006/relationships/hyperlink" Target="http://www.youtube.com/watch?v=UJ3rlKh4utw" TargetMode="External"/><Relationship Id="rId3" Type="http://schemas.openxmlformats.org/officeDocument/2006/relationships/hyperlink" Target="http://www.youtube.com/watch?v=UJ3rlKh4utw" TargetMode="External"/><Relationship Id="rId4" Type="http://schemas.openxmlformats.org/officeDocument/2006/relationships/hyperlink" Target="http://www.youtube.com/watch?v=UJ3rlKh4utw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zrPYZ11jXw" TargetMode="External"/><Relationship Id="rId2" Type="http://schemas.openxmlformats.org/officeDocument/2006/relationships/hyperlink" Target="http://www.youtube.com/watch?v=NzrPYZ11jXw" TargetMode="External"/><Relationship Id="rId3" Type="http://schemas.openxmlformats.org/officeDocument/2006/relationships/hyperlink" Target="http://www.youtube.com/watch?v=NzrPYZ11jXw" TargetMode="External"/><Relationship Id="rId4" Type="http://schemas.openxmlformats.org/officeDocument/2006/relationships/hyperlink" Target="http://www.youtube.com/watch?v=jVoJg5BmyLY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3880" y="3333600"/>
            <a:ext cx="6477120" cy="360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52880" y="3276720"/>
            <a:ext cx="88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élope Cruz L´Oréal Latinoa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ZXpNBFo4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cky Christina Barcel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UJ3rlKh4u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3880" y="3333600"/>
            <a:ext cx="6477120" cy="360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952880" y="3276720"/>
            <a:ext cx="88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ina y Serrat en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NzrPYZ11jX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outube.com/watch?v=jVoJg5Bmy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0:38:57Z</dcterms:created>
  <dc:creator>Owner</dc:creator>
  <dc:description/>
  <dc:language>en-US</dc:language>
  <cp:lastModifiedBy>Owner</cp:lastModifiedBy>
  <dcterms:modified xsi:type="dcterms:W3CDTF">2009-12-15T16:30:24Z</dcterms:modified>
  <cp:revision>4</cp:revision>
  <dc:subject/>
  <dc:title>Slide 1</dc:title>
</cp:coreProperties>
</file>